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B908-9C30-4237-9447-0E5C32CA1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C2EB-2013-4B88-AF74-28F8F9EBD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1508-83E4-4808-9863-D33C4DD77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65D4-DF7D-4D6B-9B76-83C30D970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7E5E-2CCB-4585-A3EA-226CC5616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40E5-7599-467D-B4F1-714BB84F5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28E2-85DB-4FD3-ACE3-735863287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1E5D-D8E9-4A53-91C7-89A275377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6F6B-11A4-4268-B261-AED13941F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52FF-F8C3-44F2-A3E1-619C93D49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0D48-4FA8-447F-BE61-C86AE670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00A1-B09F-4136-8B24-FA94D417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E8D7A-198A-429F-A4D6-3F76DDAEC6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1242226VAsJUZVajX_ph" descr=""/>
          <p:cNvPicPr/>
          <p:nvPr/>
        </p:nvPicPr>
        <p:blipFill>
          <a:blip r:embed="rId2"/>
          <a:stretch/>
        </p:blipFill>
        <p:spPr>
          <a:xfrm>
            <a:off x="-487440" y="0"/>
            <a:ext cx="54118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029200" y="0"/>
            <a:ext cx="4114800" cy="86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يا ربّ السلام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أمطِر علينا السلا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يا ربَّ السلام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إملأ قلوبَنا السلا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يا حمل الله الحامل خطايا العالم إرحمنا إرحمناإرحم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يا ربّ السلامِ.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3T08:52:20Z</dcterms:created>
  <dc:creator>SUZANNE.MD</dc:creator>
  <dc:description/>
  <dc:language>en-US</dc:language>
  <cp:lastModifiedBy>USER</cp:lastModifiedBy>
  <dcterms:modified xsi:type="dcterms:W3CDTF">2002-12-23T20:07:15Z</dcterms:modified>
  <cp:revision>2</cp:revision>
  <dc:subject/>
  <dc:title>PowerPoint Presentation</dc:title>
</cp:coreProperties>
</file>